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1975-1A82-4379-8089-CE068D2C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28D4-C249-4862-B04E-11B3F54F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4B8C-9F04-45F7-99BB-6E6637EF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2DE8-BABA-4D07-8057-4B5CAB65A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074A-4413-48F2-B5DB-7A2D9344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C23C-4927-4A81-B896-42EB61C2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6528-74B7-4670-B657-D2A63227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9DA5-83D6-4F69-A917-9AE91200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F28B-A8C0-4EAC-B4B4-3F6319D5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06A3-E1F3-4747-9FF3-8D10E009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A51E-EA2A-40B2-9AE6-E3A32EAC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7BA4-304A-47E0-9346-CB54A687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9280-D72E-4DBA-80F1-745D729CE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in%20título-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in%20título-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Sin%20título-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in%20título-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Sin%20título-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Sin%20título-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9T15:28:42Z</dcterms:created>
  <dc:creator>Grupo Editorial</dc:creator>
  <dc:description/>
  <dc:language>en-US</dc:language>
  <cp:lastModifiedBy>Grupo Editorial</cp:lastModifiedBy>
  <dcterms:modified xsi:type="dcterms:W3CDTF">2001-09-19T15:38:46Z</dcterms:modified>
  <cp:revision>1</cp:revision>
  <dc:subject/>
  <dc:title>Sin título de diapositiva</dc:title>
</cp:coreProperties>
</file>